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AC0C-AC65-4A7E-912F-E07E6AF3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3C1-9F51-4AB3-BDAC-18DB6D65E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769-E273-4496-8AFD-0AFB4A24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C9D-872B-4FC6-998F-A9635455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C6E-FC67-47ED-B635-7D9348B7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BDD-8488-4CB0-84E9-4570BF69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05B-8833-41A1-AF51-92D6184B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403-1630-47AC-9175-2CA03A96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9AE-6DCA-40AC-B610-C2401CD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E9F-F2A8-445A-A96A-38A3EF3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E42-45FE-475A-A6F7-314E26D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76E-4F62-425C-B696-B525AA9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C07-0D48-4BD3-8EB4-6B9F78B6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6A2-25B1-4F1F-9F72-75CB539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CC01-E85E-40C5-87DD-B32887D71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eetika Ku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eetika Ku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eetika Ku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eetika Ku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05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81280"/>
            <a:ext cx="2057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s amigos! Me llamo Geetika. Estoy gracioso, linda, y joven.Yo vivo en Astoria, New York. Tengo catorce años. Me uno hermano, y se llama Tanish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81480"/>
            <a:ext cx="64800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864400"/>
            <a:ext cx="543240" cy="785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52520" y="5334120"/>
            <a:ext cx="43992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295280" y="5562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"/>
          <p:cNvPicPr/>
          <p:nvPr/>
        </p:nvPicPr>
        <p:blipFill>
          <a:blip r:embed="rId5"/>
          <a:stretch/>
        </p:blipFill>
        <p:spPr>
          <a:xfrm>
            <a:off x="2163600" y="2511360"/>
            <a:ext cx="48744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"/>
          <p:cNvPicPr/>
          <p:nvPr/>
        </p:nvPicPr>
        <p:blipFill>
          <a:blip r:embed="rId7"/>
          <a:stretch/>
        </p:blipFill>
        <p:spPr>
          <a:xfrm>
            <a:off x="2163600" y="3809880"/>
            <a:ext cx="446400" cy="1122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09880"/>
            <a:ext cx="3429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gusta aprender español. ¿Puedes abrir la caja yo dio t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12408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n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cho gusto! ¿Como eres tu? Usted esta bonita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uestras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iñas! Ella es flaca. ¿Cuantos años tien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eeti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estamos comer helad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19720"/>
            <a:ext cx="3733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e preguntas mucho interoggativas? Mi hermano y herman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es helado. Mis hermanos quieren vainilla helados. Yo olunt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aminar a tus casa. Sus hermanas son molest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"/>
          <p:cNvPicPr/>
          <p:nvPr/>
        </p:nvPicPr>
        <p:blipFill>
          <a:blip r:embed="rId9"/>
          <a:stretch/>
        </p:blipFill>
        <p:spPr>
          <a:xfrm>
            <a:off x="2084400" y="5181480"/>
            <a:ext cx="525600" cy="1322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334120"/>
            <a:ext cx="44197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 ¿Bien y tu? Arrepentido yo no responder. ¿por qué quienes helad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nes quiere helados?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soy hambr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172200"/>
            <a:ext cx="4038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 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mo estas? ¿Tienes helado? Yo necesidad estudi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8672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2485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9"/>
          <p:cNvSpPr/>
          <p:nvPr/>
        </p:nvSpPr>
        <p:spPr>
          <a:xfrm>
            <a:off x="2892600" y="2879640"/>
            <a:ext cx="2286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1350361690236 (1).jpg"/>
          <p:cNvPicPr/>
          <p:nvPr/>
        </p:nvPicPr>
        <p:blipFill>
          <a:blip r:embed="rId12"/>
          <a:stretch/>
        </p:blipFill>
        <p:spPr>
          <a:xfrm>
            <a:off x="228600" y="609480"/>
            <a:ext cx="129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8:29:18Z</dcterms:modified>
  <cp:revision>124</cp:revision>
  <dc:subject/>
  <dc:title>Profile</dc:title>
</cp:coreProperties>
</file>